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12920" y="1027080"/>
            <a:ext cx="49291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12920" y="1027080"/>
            <a:ext cx="49291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68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776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-209520" algn="ctr"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romáždění Společenství vlastníků jednotek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mnická 4/ 887, Praha 4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konomické informace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077840" indent="-216000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od 1.1. do 30.9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konstrukce – velká (stav příprav, proces výběru, další post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rava výtahů – uvedení do souladu s EU norm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ba nových členů vý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278000"/>
            <a:ext cx="10078920" cy="527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9640" y="4140360"/>
            <a:ext cx="1619280" cy="1618920"/>
          </a:xfrm>
          <a:prstGeom prst="ellipse">
            <a:avLst/>
          </a:prstGeom>
          <a:noFill/>
          <a:ln w="1080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9000" bIns="990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Který byl v Jemnické nejhezčí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10078920" cy="5273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9640" y="4140360"/>
            <a:ext cx="1619280" cy="161892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9000" bIns="990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</a:rPr>
              <a:t>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Který je v Jemnické nejošklivější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 se stane za dalších 10 let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přírodě ve skutečnosti k žádným zázrakům směrem k organizaci, řádu a zlepšování NEDOCHÁZÍ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zákon termodynamiky: Entropie v čase narůst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-li dům po 10 letech nejhorší v ulici a začíná-li být „průchoďákem“ a ubytovnou, co se stane za dalších 10 let, nepostavíme-li se k tomu če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??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31760" y="2062080"/>
            <a:ext cx="8075880" cy="49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0720" y="631800"/>
            <a:ext cx="8609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Proč je výhodná kvalitní rekonstrukce pro majitele - bydlícího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10920"/>
            <a:ext cx="918072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výší se komfort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jistí se fixace technologických problémů panelové konstrukce tak, aby v příštích 15-20 letech nedocházelo k dalšímu výraznému zhoršování technického stavu budovy – tím se ušetří na vynucených nekoncepčních oprav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vyšuje se (okamžitě!) hodnota vlastního maje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2. den po provedené rekonstrukc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Prodáte svojí nemovitost         v tomto domě o min. 400.000 Kč drá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o jste investovali 259.000 Kč (v nejhorším případě), respektive začali jste hradit fond oprav ve výši kolem 2.771 Kč (13/1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3762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2. den po provedené rekonstrukc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849320"/>
            <a:ext cx="86076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Zkomplikujete život spekulantům, jimž jde jen o pení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žní nájemné není možné posunovat v konkurenčním prostředí nekonečně vzhůru – tzn. donutíte i spekulující majitele, kteří klidně pronajímají byty nepřizpůsobivým obyvatelům snížit jejich „zisk“ o cca 2.000 měsíč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631800"/>
            <a:ext cx="8609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Proč je výhodná kvalitní rekonstrukce pro majitele - nebydlícího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ud nejsem ryzí spekulant a nejde mi jen o maximalizaci zisku IH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jde k trvalejšímu zhodnocení a eliminaci rizik v budoucnosti. Zaplatím za to zřejmě propadem v měsíčních příjmech, které budou představovat až 1500-2200 Kč měsíčně. Zároveň budu muset v roce rekonstrukce kompenzovat nepohodlí nájemní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vyšuje se však hodnota a do jisté míry i komfort bydlení nájemní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žná se nechají odradit ti, kteří ubytovávají nepřizpůsobivé = větší atraktivita pro mé slušné nájemní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dnota dále poroste a majetek nebude rychle devastová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8208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Pádné důvody k rekonstrukci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astavení devastace našeho společného majet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výšení komfortu pro bydlí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iminace rizik v budouc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kamžité zhodnoc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Úspory na nekoncepčních vynucených opravách a úspory na rostoucích cenách energi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možná: zkomplikování situace těm, kteří chtějí jen krátkodobý efek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813960"/>
            <a:ext cx="860904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Arial"/>
              </a:rPr>
              <a:t>Znáte nás 10 let</a:t>
            </a:r>
            <a:br>
              <a:rPr sz="3600"/>
            </a:b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o, předkládáme Vám nepopulární návr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o, možná to připomíná Churchillův „pot, krev a slzy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e na rozdíl od mnoha anonymních družstev, či obřích SVJ nás znáte a viděli jste, jak jsme hospodaři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sme ochotní pokračovat dál, budeme-li mít Vaši důvě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Jak fungoval Výbor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09800"/>
            <a:ext cx="897912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ální důraz na ekonom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průměrné ceny, nadprůměrn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ce nepotřebných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yjednávání s dodav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držení skvělé ceny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ýsledkem jsou úspory ve statisíc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osofie bezplatné práce v orgán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orgánech SVJ pracovali všichni bez nároku na odmě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ěkteří dokonce hradili z vlastních prostředků některé věci SVJ (např. pan Kopřiva: pozemky, plůtky, sekačka atd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ýsledkem je úspora 1.200.000 Kč za 10 l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631800"/>
            <a:ext cx="8609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Když nám pomůžete udělat toto nepopulární rozhodnutí...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tavíme průhledná pravidla hry: Volba výběrové komise (návrh 10 členná, 8 členů = usnášeníschopná, tzn. Orgány SVJ + 6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mise zahájí výběrové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ybereme dva dodavatele do finále a povedeme jednání o ceně s cílem ušetř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deme kontrolovat průběh rekonstru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ál budeme bezplatně a co nejúsporněji řídit prov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8208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V průběhu roku 2007...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me dospěli k nezvratnému přesvěd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že bez zásadní investice a provedení kvalitní rekonstrukce hrozí další postupná devastace našeho společného majet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že nebudeme-li se schopni dohodnout a realizovat tento záměr, dostáváme se do bodu, kdy náš majetek začíná hodnotu ztrác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še přesvědčení je tak silné a naše argumenty tak relevantní, že bychom Vás rádi pro tuto myšlenku získali a společně ji realizoval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75160" y="1773360"/>
            <a:ext cx="501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8208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Možná se tu objeví</a:t>
            </a:r>
            <a:br>
              <a:rPr sz="36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979280"/>
            <a:ext cx="91807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ěkteří lidé, kteří nevidí riziko ne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ěkteří lidé, kteří neznají celou naši 10 letou historii a přirozeně nemohou věřit automaticky neznámým li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ázor, že se investice nikdy nevrá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Jak bychom chtěli pokračov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ceme kvalitní rekonstrukci (nejen „okna“), tedy: plášť, opravu technologických prvků konstrukce, zateplení, výtahy?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EZ OHLEDU na možnosti financování, pokud chceme, můžeme dál hledat cesty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é možnosti financování se nabízí? Jak umožnit financování této potřeby i těm, pro které by mohl být úvěr či splátky překážk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 umožnit těm, kteří se chtějí podílet na pracech spojených s organizací, výběrem a kontrolou firem a činností, aby se mohli účast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 zajistit celkovou dokonalou průhlednost všech krok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 motivovat i ty nerozhodn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31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ásadní omyly nepodepsaného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okument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96600"/>
            <a:ext cx="8607600" cy="68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) Podsunuje, že se cena týká zatepl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Arial"/>
              </a:rPr>
              <a:t>Cena se týká: a) opravy pláště - konstrukce, b) zasklení všech lodžií, c) plastových 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Podsunuje, že návratnost neexist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Arial"/>
              </a:rPr>
              <a:t>Ke zhodnocení dojde 2. den po provedené rekonstrukci. V zásadě je to investice BEZ RIZIKA! </a:t>
            </a:r>
            <a:r>
              <a:rPr b="1" lang="en-GB" sz="2800" spc="-1" strike="noStrike">
                <a:solidFill>
                  <a:srgbClr val="2300dc"/>
                </a:solidFill>
                <a:latin typeface="Arial"/>
              </a:rPr>
              <a:t>Je to 1 stavební spoření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) Chyba v ekonomické rovi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Arial"/>
              </a:rPr>
              <a:t>Z nějakého důvodu míchá jablka a hrušky a navíc tvrdí, že cena energií bude konstantní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) Chybně tvrdí, že se jedná o opravu extrémně drahou (viz bod 1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Zřejmě se domnívá, že je to částka za zatep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) Říká, že se návratnosti nikdo nedož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Předpokládáme, že se zhodnocení dožijeme všichni a bohužel se jistě dočkáme i rychlejší návratnosti zateplení než pisatel mí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231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e 6 tvrzení je 5 chybnýc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3120" y="1953720"/>
            <a:ext cx="860724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dna obava je ale správná: Zvýšení příspěvku do fondu oprav o cca 2.2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žná si to skutečně zkusme představit jako jedno stavební spoření na částku 250.000 Kč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zastíráme, že je to velice nepopulární a že to představuje významnou zátě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 třeba říci, že fond oprav máme stále extrémně nízký a i proto je ten skok velký. Zároveň úspory vystačí zhruba na rekonstrukci výtahů – což je opět důsledek nízkých předchozích záloh do fondu. Před deseti lety jsme si ale řekli, že fond necháme nízký a bude-li něco potřeba v budoucnosti, tak to budeme řeš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nd oprav bude při zvolení komplexní rekonstrukce po dobu 10 let o cca 20-30% vyšší než je obvyklé v Pra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231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ávě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2400" y="1660680"/>
            <a:ext cx="8607600" cy="52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istují přesvědčivé argumenty pro provedení námi navrhovaných opr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rava technologických prvků panelového d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Zatep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Jednotné zasklení – má i efekt další ochrany lodžií v budouc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Ke zhodnocení dojde okamž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Jsme schopni garantovat dobrý průběh celé 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31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avděpodobně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2400" y="1875960"/>
            <a:ext cx="8607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 nás buď nesešli 2/3, nebo je třeba ještě čas na rozmyšleno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5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to navrh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oslední pokus prosadit komplexní rekonstrukci (19.3.2008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bude-li schválena rekonstrukce, pak zastávají Výbor i “Vlastník pověřený kontrolou” zcela odlišné postoje a odstoupí, aby umožnili řídit fungování SVJ osobám, které budou více reprezentovat většinové náz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231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ozhodli jsme se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2400" y="1875960"/>
            <a:ext cx="8607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 algn="ctr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ohledem na to, že připravujeme nejkontroverznější projekt za celých 10 let, rozhodli jsme se tentokrá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ctr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že nebudeme hlasovat o členech Výb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99760"/>
            <a:ext cx="860436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měna rozhodnutí o členech Výboru a Kontrolním orgán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de-li někdo chtít toto rozhodnutí změnit a zařadit tento bod programu, musí pro něj získat nadpoloviční větši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14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 algn="ctr">
              <a:lnSpc>
                <a:spcPct val="14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*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14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kliže se neshodneme na rekonstrukci ani v březnu 2008 celý výbor na příštím Shromáždění odstoupí a Vy si vyberete nové vedení SV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Jak fungoval Výbor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09800"/>
            <a:ext cx="89791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cela bezkorupční prostřed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oritou byla cena a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poručené firmy procházeli vyjednáváním a konfront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trolovali jsme kvalitu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řilo se nám snižovat cenu prací tak, že jsou rozhodně pod průměrem běžných cen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ce Výboru a Kontrolního orgá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konomika - hospoda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éče o společný majetek – udržování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trola - předcházení tunelování, kontrola doda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Jak bychom chtěli pokračov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ceme kvalitní rekonstrukci (nejen „okna“), tedy: plášť, opravu technologických prvků konstrukce, zateplení?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EZ OHLEDU na možnosti financování, pokud chceme, můžeme dál hledat cesty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 jakých formách financování se dohodneme?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ké možnosti financování se nabízí? Jak umožnit financování této potřeby i těm, pro které by mohl být úvěr či splátky překážk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 umožnit těm, kteří se chtějí podílet na pracech spojených s organizací, výběrem a kontrolou firem a činností, aby se mohli účast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7000"/>
              </a:lnSpc>
              <a:buClr>
                <a:srgbClr val="000000"/>
              </a:buClr>
              <a:buFont typeface="Symbol" charset="2"/>
              <a:buChar char="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316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k zajistit celkovou dokonalou průhlednost všech krok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161928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306072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450072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720" y="5940360"/>
            <a:ext cx="360360" cy="1260720"/>
          </a:xfrm>
          <a:prstGeom prst="downArrow">
            <a:avLst>
              <a:gd name="adj1" fmla="val 50000"/>
              <a:gd name="adj2" fmla="val 8746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Výtah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cela mimo rekonstrukci chceme prové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ravu výtahů – soulad s normou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 vlastních prostředků na ú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lasovat budeme zvlá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de-li schválena, bude realizována v roce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konstruk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1240" y="1922400"/>
            <a:ext cx="860760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ceme kvalitní rekonstrukci (nejen „okna“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ášť – opravy lodžií (technologické prvky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sty – plastová okna a dve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nstrukce – odstranění „papundekl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teplení – otázkou je „jak moc“ - změny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sklení – jednotnost, vyšší komfort, ochrana opravených prvků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konstruk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ční náklady (zvýšení DPH, možná úspora na základě výběru, toto je rámec investic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52680" y="3852720"/>
            <a:ext cx="54673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Financován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tovostní úhrada do konkrétního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Úvěr 10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Úvěr 15 let – snížení splá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52680" y="4537080"/>
            <a:ext cx="5467320" cy="2266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7964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tevřenos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aždý člen SVJ se může nechat nominovat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ýběrové komise a být jejím aktivním čle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ílet se na činnosti komise a jejím rozhod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chceme žádná omez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chceme žádné „zákulisní hry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7964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ůhlednost všech krok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22040"/>
            <a:ext cx="86076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innosti zvolené kom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ypracovat zápis o každém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ahem musí být zejména výsledky hlasování, úkoly a termíny dalších kr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veřejnit zápis na intern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1000"/>
              </a:lnSpc>
              <a:buClr>
                <a:srgbClr val="000000"/>
              </a:buClr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yvěsit zápis na nástě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ýsledek: každý spoluvlastník je informov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1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072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7964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7964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000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000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0360" y="360360"/>
            <a:ext cx="360360" cy="1260360"/>
          </a:xfrm>
          <a:prstGeom prst="downArrow">
            <a:avLst>
              <a:gd name="adj1" fmla="val 50000"/>
              <a:gd name="adj2" fmla="val 8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599760"/>
            <a:ext cx="860436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200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5880" y="228600"/>
            <a:ext cx="5676840" cy="70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rgány SVJ Jemnická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0160" y="2022480"/>
            <a:ext cx="89787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ý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 Sedláček – předsed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olen v několika obdobích, 10. ro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tr Pulkrábek – čl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olen minule, 2. ro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eš Holubec – čl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olen ve dvou obdobích, 4. ro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minulém shromáždění byla neplatně zvolena paní Čermáková – legislativní důvody (nebyla členkou SVJ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niklo členství Jaroslava Vejse – prodal jedno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lastník pověřený kontrol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áš Frk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volen v několika obdobích, 10. ro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rgány SVJ Jemnická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2022480"/>
            <a:ext cx="9720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voz – měsíční sledování reportů An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lužníci – opat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edování legislati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ontrola investic = pouze schválené investice ze strany Shromáždě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arijní opravy = zajištění havarijních stavů (Bytoservis, Aneso – zásahy), následné rozhodo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navrhovaných systémových řešení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ontrola hospodaření An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naha posuzovat stav budovy a společných prostor a navrhovat opat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ohry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2022480"/>
            <a:ext cx="9180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i neexistuje žádná výrazná pro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Částečné prohry posledního ro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poždění podkladů pro rekonstruk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etický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ie postupu rekonstrukce plášťě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zatep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ěny – program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dokonalé řešení problémů s nepřizpůsobivými obyvatel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Výhry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1997-200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2022480"/>
            <a:ext cx="918036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Úspory ve statisících, spíše v milione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ým lidí ochotný nasazovat se pro SVJ a navíc poskládaný z lidí s různými profily - technickým, ekonomickým, legislativním a obchodn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274.552 Kč na vlastním účtu u GE k 28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bře nastavené procesy se správcem – fy An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va pohledy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2022480"/>
            <a:ext cx="9180360" cy="59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orgánech SVJ jsou zastoupeny oba dva pohledy na společný majetek v SV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itel – bydl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itel – nebydlící, se zájmem o zvyšování hodnoty a kvality SV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ohužel v domě existuje ještě třetí typ osob: Majitel, který pronajímá a jediné co ho zajímá jsou peníze! Kvůli maximalizaci zisku udělá cokoliv, nevadí mu nepřizpůsobiví lidé, vadí mu možné snížení zisků investicí do kvalitních opra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00" y="1187280"/>
            <a:ext cx="10078920" cy="527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2521080"/>
            <a:ext cx="1619280" cy="1619280"/>
          </a:xfrm>
          <a:prstGeom prst="ellipse">
            <a:avLst/>
          </a:prstGeom>
          <a:noFill/>
          <a:ln w="1080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9000" bIns="990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? 3,2 M Kč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9640" y="4140360"/>
            <a:ext cx="1619280" cy="1618920"/>
          </a:xfrm>
          <a:prstGeom prst="ellipse">
            <a:avLst/>
          </a:prstGeom>
          <a:noFill/>
          <a:ln w="1080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9000" bIns="990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? 2,4 M Kč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odnota 3,2 nebo 2,4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Sedláček</dc:creator>
  <dc:description/>
  <dc:language>en-US</dc:language>
  <cp:lastModifiedBy/>
  <cp:revision>0</cp:revision>
  <dc:subject/>
  <dc:title/>
</cp:coreProperties>
</file>