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40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7183-BFE0-4D57-B348-49B44B49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6E3D-0567-4E16-B1AF-565135CB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B8B2-27A2-4444-A88E-B3B204CA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29F-1749-44B4-AA2A-AD19EE06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5533-4651-4D4F-AEF5-19F9C6DE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EA20-CCFC-48A6-990E-D08ECDF0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A129-03AF-4FED-ADD5-B1BC7515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6C10-C089-47FF-92B4-18592ACA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9F89-261D-4B75-A301-1F071510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F0E2-5EFF-44ED-B379-9AA003E4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996C-A5BD-4D57-8660-52B73E46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9D2-2363-4BFF-841D-873CFD9D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4BF6-F2AE-478D-B0BD-46487FEA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391E-481E-41CA-AB9D-DD8F7764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6043-DD75-424A-87BD-638CB644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0CDA-1CE4-45D3-8E4C-B856A84B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6BF5-CF58-4986-9470-B2E36234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54E-F6C8-408F-86A1-D4AB1A0A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49F-EB41-4F6C-844B-3B7C8529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DD81-FBFD-4B14-82F4-FA626C97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B8A-3B2A-4D77-9428-2BDA4D1C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555-2AD1-4A2E-9068-94B9EA1F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313-5EA4-4F27-80E6-DBE4C81E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A05-A55B-4482-BD4E-9088FE39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1501-C814-4141-81CD-B2D4304751C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36EE-7603-41E2-B7F3-01E2B3F7877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web.cz/jemnicka887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bcbcb"/>
                </a:solidFill>
                <a:latin typeface="Arial"/>
              </a:rPr>
              <a:t>1. shromáždění společenství vlastníků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1760" y="4800240"/>
            <a:ext cx="2514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an Sedláč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an Opp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vo Kopř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omáš Frk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logo2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78332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rogram shromáždě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Přijetí stanov Společenství (včetně názvu Společenství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Volba výboru Společenství (statutární orgán Společenství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Volba kontrolního orgánu Společenství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Provozní záležitosti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Návrh statutárních zástupců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2828880"/>
          <a:ext cx="7772400" cy="5176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 Oppe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 Sedláč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o Kopřiv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838080" y="21337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bor společenstv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352680" y="4876920"/>
          <a:ext cx="2590920" cy="53316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áš Frk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838080" y="4114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trolní orgán – vlastník pověřený kontrol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Hlasová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řijetí stanov – čtení – rozprava - hlasová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olba statutárních orgánů – návrh – rozprava - hlasová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olba kontrolního orgánu – návrh – rozprava - hlasová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lasování o návrhu provozních změn – návrh – rozprava – hlasování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 celého shromáždění bude vytvořen notářský zápi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rocesní záležitosti byly a budou konzultovány s p. Mgr. Hronke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rovozní záležitost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nesení o ustanovení správní firmy, smlouvu uzavře stat. Orgán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nesení o ukončení platnosti příkazní smlouvy k datu 1.11.200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Usnesení o tom, že náklady spojené s vymáháním pohledávek hradí vždy dlužník.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Fond oprav – provozní fo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Fond opra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růměrná záloha 357,14 K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j 25 Kč na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1523880"/>
          <a:ext cx="7642080" cy="10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64208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57200" y="3276720"/>
          <a:ext cx="4267080" cy="1143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4267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862520" y="4181400"/>
          <a:ext cx="4281480" cy="2676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62520" y="4181400"/>
                    <a:ext cx="428148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066680" y="4648320"/>
            <a:ext cx="3276720" cy="22096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Navrhujeme zvýš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na částk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35 Kč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na 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Odměna správci domu - ANES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právní firma plní řádně své povinnosti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a dva roky nebyla zvýšena odměna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atíme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9,3 Kč na 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1000 (9.307 K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měs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avrhujeme zvýšení odměny správci o 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%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méně než kopírování inflace – dva roky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avrhujeme zvýšení na  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9,77 Kč na 1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/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1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ZN. Na typ. jednotku o 13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1000 zvýšení o</a:t>
            </a:r>
            <a:r>
              <a:rPr b="1" lang="cs-CZ" sz="2400" spc="-1" strike="noStrike">
                <a:solidFill>
                  <a:srgbClr val="ffff00"/>
                </a:solidFill>
                <a:latin typeface="Arial"/>
              </a:rPr>
              <a:t> 6,11 Kč měsíčně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Zpráva správce do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lena Majerov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aneso3" descr=""/>
          <p:cNvPicPr/>
          <p:nvPr/>
        </p:nvPicPr>
        <p:blipFill>
          <a:blip r:embed="rId1"/>
          <a:stretch/>
        </p:blipFill>
        <p:spPr>
          <a:xfrm>
            <a:off x="6835680" y="762120"/>
            <a:ext cx="2308320" cy="811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78520" y="16002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www.aneso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124080"/>
            <a:ext cx="7467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ospodaření s finančními prostředky – opra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luhy a velcí dlužní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ravy do října 2002 první odh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ěkujeme za účast!!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0" name="logo2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783320" cy="1589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43000" y="4876920"/>
            <a:ext cx="6781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www.sweb.cz/jemnicka88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66cc"/>
                </a:solidFill>
                <a:uFillTx/>
                <a:latin typeface="Arial"/>
              </a:rPr>
              <a:t>jemnicka887</a:t>
            </a:r>
            <a:r>
              <a:rPr b="1" lang="en-US" sz="4000" spc="-1" strike="noStrike" u="sng">
                <a:solidFill>
                  <a:srgbClr val="0066cc"/>
                </a:solidFill>
                <a:uFillTx/>
                <a:latin typeface="Arial"/>
              </a:rPr>
              <a:t>@</a:t>
            </a:r>
            <a:r>
              <a:rPr b="1" lang="cs-CZ" sz="4000" spc="-1" strike="noStrike" u="sng">
                <a:solidFill>
                  <a:srgbClr val="0066cc"/>
                </a:solidFill>
                <a:uFillTx/>
                <a:latin typeface="Arial"/>
              </a:rPr>
              <a:t>seznam.cz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5:27:51Z</dcterms:created>
  <dc:creator>Jan Sedláček</dc:creator>
  <dc:description/>
  <dc:language>en-US</dc:language>
  <cp:lastModifiedBy>Jan Sedláček</cp:lastModifiedBy>
  <dcterms:modified xsi:type="dcterms:W3CDTF">2001-10-09T19:58:05Z</dcterms:modified>
  <cp:revision>22</cp:revision>
  <dc:subject/>
  <dc:title>1. shromáždění společenství vlastníků</dc:title>
</cp:coreProperties>
</file>